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2278-0FAD-4B02-B31F-0236A2C91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B730-A1C7-4528-AFC8-0A9B99977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144AB8-77CB-46CD-882A-68DDCB317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34A247-1749-4B8B-A076-FFB9EB295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99B56C-1496-4B04-AFCB-C747F2C4A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D2D3D2-B1C1-4F1C-B85E-2CA6E6D76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E1743E-D7BE-4A5C-93D3-E1C343E0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4E3728-4691-4598-AE77-C04CCC565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D3D02C-7FE6-423A-8B93-F2FE8B3CB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8E5365-B5AF-4C09-B0D7-82E35100C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1B4199-ADE6-4CC5-BC35-A966F9E37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EFEBE7-E1B1-474B-AE17-46681E755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2F10-E6ED-47D9-8B54-CD8C1476A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BCF6F5-67EF-440A-839A-44E4EB956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BED32E-3C3F-4842-82BC-49F9301CB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4269B9-67CC-490A-B335-9EEFB72B4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6910CD-01BE-43CE-BB6F-CC1993744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6DCEC1-FCE2-4058-9B30-DBEF3F10F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E83DD4-7789-4CC7-A5C7-A4437FA0B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3DBA9F-4971-4ACA-9220-68D41761D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999D52-8397-4C5C-A841-4A32B7F11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0BCF40-DB6F-4A9E-B699-892CD3CAB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53E184-24B6-459E-ABA0-1BA01380E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C6D6-90C2-4E73-BE51-8AE6B2B64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035DD0-FF3D-4DF9-A39D-5EDA791E0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07B511-606E-4C49-B430-B3EE89B39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AA94A3-F24D-4CD6-B27D-D08A5BE64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A7B776-7545-421F-ADE6-7BA5E2586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7EABD7-4D00-439F-BF05-16E228CAF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A26366-7213-424F-A9BE-64962B359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DC43B0-2188-4014-A5A9-7BFB9199C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73E0D1-F735-4AC6-B1AB-D3FA23881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784EC5-B0A2-4EA9-8767-1E653B9A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FF17DD-0ED2-4C3C-9E3D-B3CB9C2E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F4AE2-EA39-48EE-8BD3-0CE1943EC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F8D107-F4C4-4A7A-BCD8-49B7579D8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ADA2C1-6A25-49DD-8CD7-2E0616862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BB6E41-6B03-4A17-993A-4C4854CDA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613D39-9B75-4138-87D8-3233CA7C8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F32513-5855-4280-A7BA-BBEE66EC5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20B684-2E6C-4D3F-A803-0DEBAC811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2367AE-149E-4229-B63D-76209C283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9A1341-9B9D-43EA-9C19-38CE83A6C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9CC48A-5F29-40EB-AFA2-44B9D1349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C82686-1B1D-411A-9BF6-DBB78A18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647E2-CAFA-4151-82FD-17D507394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01877F-71A0-40E0-BE41-6A274D492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7492FB-7806-4CEB-B4CF-6595E8FBB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ED9B2C-4283-40EA-90DA-96B3004D4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C5E286-F3F6-401B-92BB-CF404B724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A06325-6CF8-4637-80DA-47C030184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60EC25-F462-4A40-94D2-F39DDFEDA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A0AC65-44BB-458E-BE3A-33EEF1784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4299CD-08DD-482D-BC92-59083FB31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AE407B-D5B1-456C-9650-7ECBA69D5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DFCD25-AD56-47CD-B2EA-991A3A9F7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62240-9E00-4622-9231-28621D12D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A25748-85F1-4860-9E90-B5E9BACE3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50A93D-1414-4947-80E5-58DEDD01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D3EBB7-926D-47EF-A822-37C26BC7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2350A8-FC42-4870-A119-B5807C55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35F9B1-C4EA-4D5F-B8C9-B00BAEED5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D3CCD3-F9DD-45E3-A986-82BE91EFC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3BD7B9-5B92-47D1-BA99-7AC701C1A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D34666-2A7A-4AB1-945D-22C4CC744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CB07F4-6985-49ED-AF7A-AAE2A98EB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5A46FA-885D-4F45-9FD6-1D42F6301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E2F85-891D-4F63-A85A-D18B4D647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707080-A14C-4028-96CE-0258BE2ED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A88D21-0173-4174-B33C-15AB035B1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CA65DA-2D4F-49F0-A0D8-3CE6FFEFB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CF13A0-D0C3-4296-9027-74B634438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026901-0227-4D65-9BC9-1EF3771E2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AB6F79-BDED-4B44-B741-30BCA9430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DC5DB8-AE3D-4DB2-A167-B905C3B06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A102BF-25C8-4113-A9B1-9529DAF05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60F697-7AC7-4246-9FF1-F11CAB4F0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90F048-3200-4DF2-87B1-528359264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F7696-959A-4FA8-A3D3-3E6EE80C4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C7715C-57FC-429C-B060-226C24004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A0D860-7288-4169-90B1-B4AC61DEC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0EF4B2-C2E6-486D-9EBC-18469E683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23EFF8-F098-4B24-9586-4E4DE3E12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538207-BB73-4FAB-94B9-946343E71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161BF3-4F04-41F0-9496-0D7A3F1F2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B3F7B6-6947-420E-A00B-3EC69BE2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1A9597-5878-48F7-9DB7-21C17A4AA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39277D-AC9E-4CAB-A8A0-E7701973E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F6D2A8-21CA-4D6E-9ADB-7A22265CF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B1949-599D-40A4-ABC7-256E195B4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B68044-3A7B-447A-BAB2-9266AC62F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84A85C-F225-4A10-8722-DBEFEC5E2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235095-B83F-4E08-ADD3-9830F3835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6AC1DB-D37E-481F-AF5F-A1769496B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6F672E-B45E-455A-AC9A-624EAA770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90AD61-5146-4801-9DB3-B3D77F7A7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8B4A5C-E284-463D-99EE-50A8E97B2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12D972-3001-447B-83EC-E4AE37E1E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428A16-E774-4759-B15B-E8F278EF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A761DC-EBB1-43F6-BB1D-E6DBF2774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FB197-EB14-4434-BE6B-4CBC9948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2952BF-A68B-4091-9730-A91008D22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6D91AA-8D55-4A97-A984-E3BD9D52F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170DDA-ABD7-4F20-A720-E6ECA16DD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6FEA86-B721-4E4B-8E00-04DC7BE43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2F8DD9-E2B5-441F-AA2B-FF00C5B03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643D87-2A85-4B0C-8708-20DC55778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C253CE-1B99-4F27-A2C9-B45179449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7E91BF-AC20-411B-BBE1-CC175B9EB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40397A-857A-4396-A5FE-5CF917DAC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6BCD13-7012-4DF8-92DA-AFAABA3B2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643E-2019-46CE-A8EE-E76F3E8EF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AB3E1-82AC-43DF-884E-11C5821A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310A5E-EADA-4E51-B5A0-D6B6B7F4E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F7DBAD-57A2-458B-94CA-37A6C15D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937D18-54ED-4106-9A8D-19E09ABA3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918B1D-C099-4DCC-9CEC-C90D7BB77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C6588C-3E8B-42C1-B68E-65E47B265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3744B7-A404-443D-99DE-F978493B8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51599A-37A1-4B01-A2BD-3291FD972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6B7945-020D-49F9-9D09-E708DAF21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11B3CD-5151-473F-B6A2-657218B72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DA6A6D-ADB4-4837-BB88-262260662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46021-63FF-4C04-AF29-BDF4DD712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C3DC49-1C53-461A-9FEC-C82A84D1C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B22C04-5268-45EC-86FB-D07C9082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F895A7-13F7-451F-A1C4-11521D71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5371EB-1CB0-4C44-88CB-8ED277A96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EF9F25-1D5F-4E2E-BB05-494194B6A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BBF7B0-DAB5-45FD-A579-CB6842FB7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ACB104-B59B-4F72-9034-9F572DDF9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4973C7-70AF-4C07-9686-58E7B3E9F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406348-66A6-4110-8322-416D26923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B463D6-152A-4DFA-9028-AD47EB2B7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0CE03-601B-4E13-B8E2-34BAC4491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3A6974-9EB5-4F29-83BA-868E57708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9B7151-EAF0-4379-967A-DEC2D0592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466388-566D-40A4-9A53-AD3834F2A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F34866-9A8A-412E-9BE9-0B59C9AD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E12C59-4D90-4622-8A6F-074CF64EA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46BA64-AFE2-47D9-9FB3-493D4BF0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D8BE9A-3566-49C3-BB79-CF56A7703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835866-9EAA-4868-9653-CC3322AC1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EABA59-ED5B-4963-AC37-B456E1B60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B8812E-8884-4F9F-9A45-979BBFEFF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750B1-CAF1-4375-B26D-D780E7927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32D8D9-9ACB-4203-984A-92E532806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10000C-9C70-48C4-B3E1-C7013EEAC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1F0C33-5DCB-4EC1-A21E-9DE3E5DC0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43A385-50F5-44EF-85C2-81E420548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8F2E1A-0FAF-40C1-B403-E3BAE52E9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80E751-79FC-45CC-B259-A06913B06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AD3A1B-42CA-4596-BCC5-1121C651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3D1475-C538-4F79-99E0-ECD28670E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434A45-9A80-4C47-8017-4D462A29A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FBC4DC-FEB0-4B96-AE06-6BF17D230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77435-9B63-449E-AE70-491B08E97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19D68F-0862-491E-9ADE-4321A3160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2F4E63-5849-497D-82DD-4B0A1EF02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B4188A-C948-48C2-BC75-0D19FD134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D7E9F9-C5D8-4BD3-AC0C-C04C79D21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439435-914B-4E62-A74A-8CB1634C7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D38982-7941-4BBB-A531-6D9814101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E634F4-070F-44F7-89B6-55CB45FB3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307A45-195B-4236-B586-EA603F339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F35438-71E8-42D6-B9EA-F6DA0FAD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52A376-E490-4EFE-9A90-CD4DFB1A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EE65A8-9C75-42B6-804E-D0F952100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71A4F5-D004-4B38-9F52-C050B3C2D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A2230B-4D00-43EE-A825-083516CCE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0E7D-59B7-4E10-A171-3732222B5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928D3-21DE-4AE6-9AB2-93A37B065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B4838-5E23-4B77-9E63-5CAC68DE9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4BFED-7269-40F4-98A1-3899CD268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E5E1-39D0-4C41-AF43-54EDAF50A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469CF-43EF-4D6A-AE82-4455AF068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14403-4B8B-4CA6-837C-9BE8ABFE2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71048-974C-46CE-BFDC-7B3A379E1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D7553-5E81-4549-8306-51201AE44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DE482-33CC-4889-937B-13A27D8E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99DE2-A84A-4966-80B8-0D7F6104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61150-6FD2-4F47-AAAA-0ED02AE09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D770C-7008-456C-8CB8-7EBC6CDCA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9305D-132C-4471-93C0-E05F02C31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0D2EB-9023-4B36-BFDC-9EA598B3F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D5CA-9A1A-4DFE-85D0-4388FC3E5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70E98-8DAF-4152-ABA5-0172DFA6F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4F54C-DD6A-4C22-B4A7-24BEFCF52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53416-43F3-4D74-9BE7-3325B0939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5AAB6-5A2E-46BB-AE83-F30DF6C64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E38FB-44D5-4E7D-AFB4-1CFC72E90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E1B08-BFC8-4F6A-89A0-E806744F5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FD7BD-D450-4C98-AE3C-9F49B4D4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DE79C-CDAC-44E2-8347-337D6E1B7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0624C-1F1C-428D-9555-2C5038944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4B43C-A0E1-4D69-B786-4B909642B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6E23-778F-4E7B-B49F-CAD94D480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3F7EE-D9A3-4F0F-A03C-1140BEF0E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0BC21E-3519-4AAE-9110-7894B535B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5B23D-FA4D-4060-8A49-31CC6C583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CFC619-8A6A-4B70-B9E4-28C151A43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1A2E5-99BF-4372-8EA6-3E9AE104B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618D5-D861-40C8-BE74-1D4446218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870DC8-CD1F-4CF1-B695-E150E0F40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A1AC19-D806-489A-9F65-76051452E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18A4C7-FFB1-429B-AF2D-947F76F0D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8E42B3-8BBF-4003-B65C-57D83EAFB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7FE6-F550-47E3-A700-69A06DD34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64B971-6D67-41D6-A4EB-631B8A463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A65CD5-4EA5-4E60-B0FB-EF616B7E0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0B6CF-C50D-4580-9F5F-66CF40668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C43F19-ECDE-49D6-ADCB-49D3784B8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EE71A7-0176-41B0-AF25-25D9BE1AD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798939-E05F-4722-B0B4-335A02619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5CED57-1B01-4183-B331-62A0A5DD4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A86FA3-0D25-4968-9763-3699851A4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EC7ABA-88C4-4403-8FD6-04C89AD84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2ADDD5-BE3C-4F61-87FC-B35B8C25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2477-251C-4F80-B516-43B067717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B59423-0CB1-413F-ABB8-828E4B2A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FC1728-ACE4-4502-9744-A04F4BF6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8B1C78-99F6-4115-8805-0C6A50560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2452D0-D4B1-4DE5-A281-700F4EB30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15EA2-6372-4A03-93BF-EE24E0DD7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455476-BE7E-4DA8-87AA-268496217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CA5784-7573-4831-B43B-E9286FE47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70089F-F96C-447C-915F-3B3FAA80B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10FDB6-57B2-4E43-BEBC-D157C0686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1E4BBE-74CF-499B-B77D-4E18B6767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D4B2-7B29-4B9C-A6BF-3F80A4D7F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993948-19BF-4CB1-BAB1-5157AFAE6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7CED87-8C9B-4D3B-BD94-B7D84678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D97997-6D66-4AAD-B79A-7548BDAF8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87D2A2-BDA0-4274-A7B0-1B53241D8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B26D3D-EDCE-45CB-898D-18BAFEBEB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949201-602A-42D9-B08A-509FD02BC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BFFFF4-CA55-4F8B-9B15-6277AAB59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4C20CD-DA71-404D-B765-4D6C282B5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B6F966-4FDD-45A7-8C76-CC856E4DB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444930-8A12-480A-AB19-BD919F96A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9CE50-3CEF-45A6-A44D-2C7FFAFCEE4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5FA9A-E587-49CE-9349-93FB3C6BF6C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F776B-2A26-4ACA-9CDF-C8020BB404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8ED7C-4A42-41F8-B607-745A95A1D1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927E1-DAB1-4BC8-B903-5F3FBA4E7C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EA93B-79C1-49A6-A6CD-862C706627F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69F8B-FC12-45EC-B40E-DD5521BCAD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8D62F-4B31-4013-A6F4-C7D5E90D4D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81B46-AE70-40BB-A5D1-6A14BD4EC5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5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6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07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8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09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1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2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4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5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0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1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6E565-A950-4886-ABC3-11823905A83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2D78F-DD0F-4F98-8F67-70372E0BC6B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67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68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3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4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FFF0B-D610-40EA-9EA3-208B99F766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9C6FA-56C3-45F8-8730-22719FBBD6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62F96-DF46-4049-A2F6-C9E995285CA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0EDD3-BF30-49D6-90FE-7B815CA594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4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5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6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2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021AD-E003-48BB-9A2D-366965BE69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4878A-2513-4C15-86A6-E764968DCA7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8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48710-19D1-4273-ACF1-0970565E0CC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0933A-4CFF-4B75-9DF9-8D422C9AC9C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2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3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4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7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68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9F7B5-A7E3-4431-98EB-28BF81E7B05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FCF5E-8E5A-4445-9962-F0CBDF8A1FC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DA0A7-72BC-4328-8C00-C381E3E109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BE92D-3F96-465A-B9DE-17AAE400C85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4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DEF03-DFD2-4A47-A219-ABB2331D43D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FAEA2-2280-47B8-962F-1A54FF6AEE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59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0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1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2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4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5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7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68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69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4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5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8A426-E4B2-4457-9DFC-1715FFB4FA0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F8AFF-BA4A-453B-87FF-0656A31BE47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3078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6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28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4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E13B4-45A8-47F2-8C02-D24629DF218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5B004-9077-47C4-99FE-C1F1708352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EA9BA-2B4C-4AA4-835D-F023C09594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2972B-75C6-42D6-93EC-E3AA089D20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3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4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5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1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4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1FB75-1416-4A07-A2BA-665AA4B12C6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24092-1441-4D99-B7DD-A656DD73AF8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014CD-4315-46D7-8FF2-5C0693A160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02F68-49FC-46C2-B2C2-1E17B4433F3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F6BAE-E120-492E-84A0-EB5931C2A01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39CEB-AF43-480D-BE16-10B30C9F490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5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67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1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87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88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89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3907D-2D53-4644-80E2-9686BC9A51D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1B124-84B0-470E-93E5-07DD35CB10C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1" name="图片 2051" descr=""/>
          <p:cNvPicPr/>
          <p:nvPr/>
        </p:nvPicPr>
        <p:blipFill>
          <a:blip r:embed="rId1"/>
          <a:stretch/>
        </p:blipFill>
        <p:spPr>
          <a:xfrm>
            <a:off x="111240" y="2852640"/>
            <a:ext cx="8708760" cy="9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1" name="图片 13313" descr=""/>
          <p:cNvPicPr/>
          <p:nvPr/>
        </p:nvPicPr>
        <p:blipFill>
          <a:blip r:embed="rId1"/>
          <a:stretch/>
        </p:blipFill>
        <p:spPr>
          <a:xfrm>
            <a:off x="90360" y="843120"/>
            <a:ext cx="896328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4" name="图片 14337" descr=""/>
          <p:cNvPicPr/>
          <p:nvPr/>
        </p:nvPicPr>
        <p:blipFill>
          <a:blip r:embed="rId1"/>
          <a:stretch/>
        </p:blipFill>
        <p:spPr>
          <a:xfrm>
            <a:off x="442800" y="971640"/>
            <a:ext cx="8258400" cy="491472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1" descr=""/>
          <p:cNvPicPr/>
          <p:nvPr/>
        </p:nvPicPr>
        <p:blipFill>
          <a:blip r:embed="rId2"/>
          <a:stretch/>
        </p:blipFill>
        <p:spPr>
          <a:xfrm>
            <a:off x="826920" y="105264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1" descr=""/>
          <p:cNvPicPr/>
          <p:nvPr/>
        </p:nvPicPr>
        <p:blipFill>
          <a:blip r:embed="rId3"/>
          <a:stretch/>
        </p:blipFill>
        <p:spPr>
          <a:xfrm>
            <a:off x="826920" y="249228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1" descr=""/>
          <p:cNvPicPr/>
          <p:nvPr/>
        </p:nvPicPr>
        <p:blipFill>
          <a:blip r:embed="rId4"/>
          <a:stretch/>
        </p:blipFill>
        <p:spPr>
          <a:xfrm>
            <a:off x="826920" y="321300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1" descr=""/>
          <p:cNvPicPr/>
          <p:nvPr/>
        </p:nvPicPr>
        <p:blipFill>
          <a:blip r:embed="rId5"/>
          <a:stretch/>
        </p:blipFill>
        <p:spPr>
          <a:xfrm>
            <a:off x="900000" y="393372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1" descr=""/>
          <p:cNvPicPr/>
          <p:nvPr/>
        </p:nvPicPr>
        <p:blipFill>
          <a:blip r:embed="rId6"/>
          <a:stretch/>
        </p:blipFill>
        <p:spPr>
          <a:xfrm>
            <a:off x="826920" y="4691160"/>
            <a:ext cx="505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grpSp>
        <p:nvGrpSpPr>
          <p:cNvPr id="1024" name="组合 22531"/>
          <p:cNvGrpSpPr/>
          <p:nvPr/>
        </p:nvGrpSpPr>
        <p:grpSpPr>
          <a:xfrm>
            <a:off x="250920" y="260280"/>
            <a:ext cx="7878600" cy="6337440"/>
            <a:chOff x="250920" y="260280"/>
            <a:chExt cx="7878600" cy="6337440"/>
          </a:xfrm>
        </p:grpSpPr>
        <p:pic>
          <p:nvPicPr>
            <p:cNvPr id="1025" name="图片 22529" descr=""/>
            <p:cNvPicPr/>
            <p:nvPr/>
          </p:nvPicPr>
          <p:blipFill>
            <a:blip r:embed="rId1"/>
            <a:stretch/>
          </p:blipFill>
          <p:spPr>
            <a:xfrm>
              <a:off x="250920" y="260280"/>
              <a:ext cx="562932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6" name="图片 22530" descr=""/>
            <p:cNvPicPr/>
            <p:nvPr/>
          </p:nvPicPr>
          <p:blipFill>
            <a:blip r:embed="rId2"/>
            <a:stretch/>
          </p:blipFill>
          <p:spPr>
            <a:xfrm>
              <a:off x="900000" y="1139760"/>
              <a:ext cx="7229520" cy="5457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27" name="Picture 1" descr=""/>
          <p:cNvPicPr/>
          <p:nvPr/>
        </p:nvPicPr>
        <p:blipFill>
          <a:blip r:embed="rId3"/>
          <a:stretch/>
        </p:blipFill>
        <p:spPr>
          <a:xfrm>
            <a:off x="1332000" y="112536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4"/>
          <a:stretch/>
        </p:blipFill>
        <p:spPr>
          <a:xfrm>
            <a:off x="5508720" y="112536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5"/>
          <a:stretch/>
        </p:blipFill>
        <p:spPr>
          <a:xfrm>
            <a:off x="1258920" y="198900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6"/>
          <a:stretch/>
        </p:blipFill>
        <p:spPr>
          <a:xfrm>
            <a:off x="5508720" y="198900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3" name="图片 21505" descr=""/>
          <p:cNvPicPr/>
          <p:nvPr/>
        </p:nvPicPr>
        <p:blipFill>
          <a:blip r:embed="rId1"/>
          <a:stretch/>
        </p:blipFill>
        <p:spPr>
          <a:xfrm>
            <a:off x="905040" y="1062000"/>
            <a:ext cx="7333920" cy="4734000"/>
          </a:xfrm>
          <a:prstGeom prst="rect">
            <a:avLst/>
          </a:prstGeom>
          <a:ln w="0">
            <a:noFill/>
          </a:ln>
        </p:spPr>
      </p:pic>
      <p:sp>
        <p:nvSpPr>
          <p:cNvPr id="1034" name="直接连接符 21506"/>
          <p:cNvSpPr/>
          <p:nvPr/>
        </p:nvSpPr>
        <p:spPr>
          <a:xfrm>
            <a:off x="2662200" y="2301840"/>
            <a:ext cx="3888000" cy="72072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直接连接符 21507"/>
          <p:cNvSpPr/>
          <p:nvPr/>
        </p:nvSpPr>
        <p:spPr>
          <a:xfrm>
            <a:off x="3759120" y="3141720"/>
            <a:ext cx="2735280" cy="64764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直接连接符 21508"/>
          <p:cNvSpPr/>
          <p:nvPr/>
        </p:nvSpPr>
        <p:spPr>
          <a:xfrm flipV="1">
            <a:off x="3348000" y="2276280"/>
            <a:ext cx="3240000" cy="165708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直接连接符 21509"/>
          <p:cNvSpPr/>
          <p:nvPr/>
        </p:nvSpPr>
        <p:spPr>
          <a:xfrm>
            <a:off x="2627280" y="4724280"/>
            <a:ext cx="3889440" cy="72072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直接连接符 21510"/>
          <p:cNvSpPr/>
          <p:nvPr/>
        </p:nvSpPr>
        <p:spPr>
          <a:xfrm flipV="1">
            <a:off x="3348000" y="4723920"/>
            <a:ext cx="3168720" cy="79236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grpSp>
        <p:nvGrpSpPr>
          <p:cNvPr id="1041" name="组合 20484"/>
          <p:cNvGrpSpPr/>
          <p:nvPr/>
        </p:nvGrpSpPr>
        <p:grpSpPr>
          <a:xfrm>
            <a:off x="539640" y="765000"/>
            <a:ext cx="7417080" cy="5938920"/>
            <a:chOff x="539640" y="765000"/>
            <a:chExt cx="7417080" cy="5938920"/>
          </a:xfrm>
        </p:grpSpPr>
        <p:pic>
          <p:nvPicPr>
            <p:cNvPr id="1042" name="图片 20482" descr=""/>
            <p:cNvPicPr/>
            <p:nvPr/>
          </p:nvPicPr>
          <p:blipFill>
            <a:blip r:embed="rId1"/>
            <a:stretch/>
          </p:blipFill>
          <p:spPr>
            <a:xfrm>
              <a:off x="539640" y="765000"/>
              <a:ext cx="3638520" cy="6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3" name="图片 20483" descr=""/>
            <p:cNvPicPr/>
            <p:nvPr/>
          </p:nvPicPr>
          <p:blipFill>
            <a:blip r:embed="rId2"/>
            <a:stretch/>
          </p:blipFill>
          <p:spPr>
            <a:xfrm>
              <a:off x="1117440" y="1484280"/>
              <a:ext cx="6839280" cy="5219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44" name="Picture 1" descr=""/>
          <p:cNvPicPr/>
          <p:nvPr/>
        </p:nvPicPr>
        <p:blipFill>
          <a:blip r:embed="rId3"/>
          <a:stretch/>
        </p:blipFill>
        <p:spPr>
          <a:xfrm>
            <a:off x="1547640" y="148428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4"/>
          <a:stretch/>
        </p:blipFill>
        <p:spPr>
          <a:xfrm>
            <a:off x="1476360" y="386064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8" name="图片 8193" descr=""/>
          <p:cNvPicPr/>
          <p:nvPr/>
        </p:nvPicPr>
        <p:blipFill>
          <a:blip r:embed="rId1"/>
          <a:stretch/>
        </p:blipFill>
        <p:spPr>
          <a:xfrm>
            <a:off x="576360" y="1190520"/>
            <a:ext cx="7991280" cy="447696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2"/>
          <a:stretch/>
        </p:blipFill>
        <p:spPr>
          <a:xfrm>
            <a:off x="971640" y="119700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3"/>
          <a:stretch/>
        </p:blipFill>
        <p:spPr>
          <a:xfrm>
            <a:off x="971640" y="364500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3" name="图片 9217" descr=""/>
          <p:cNvPicPr/>
          <p:nvPr/>
        </p:nvPicPr>
        <p:blipFill>
          <a:blip r:embed="rId1"/>
          <a:stretch/>
        </p:blipFill>
        <p:spPr>
          <a:xfrm>
            <a:off x="490680" y="2362320"/>
            <a:ext cx="8162640" cy="213336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2"/>
          <a:stretch/>
        </p:blipFill>
        <p:spPr>
          <a:xfrm>
            <a:off x="826920" y="2374920"/>
            <a:ext cx="505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7" name="图片 10241" descr=""/>
          <p:cNvPicPr/>
          <p:nvPr/>
        </p:nvPicPr>
        <p:blipFill>
          <a:blip r:embed="rId1"/>
          <a:stretch/>
        </p:blipFill>
        <p:spPr>
          <a:xfrm>
            <a:off x="519120" y="792000"/>
            <a:ext cx="8105760" cy="587700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2"/>
          <a:stretch/>
        </p:blipFill>
        <p:spPr>
          <a:xfrm>
            <a:off x="4356000" y="170028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" descr=""/>
          <p:cNvPicPr/>
          <p:nvPr/>
        </p:nvPicPr>
        <p:blipFill>
          <a:blip r:embed="rId3"/>
          <a:stretch/>
        </p:blipFill>
        <p:spPr>
          <a:xfrm>
            <a:off x="2411280" y="315432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4"/>
          <a:stretch/>
        </p:blipFill>
        <p:spPr>
          <a:xfrm>
            <a:off x="2411280" y="537372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5"/>
          <a:stretch/>
        </p:blipFill>
        <p:spPr>
          <a:xfrm>
            <a:off x="2411280" y="6105600"/>
            <a:ext cx="505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4" name="图片 12289" descr=""/>
          <p:cNvPicPr/>
          <p:nvPr/>
        </p:nvPicPr>
        <p:blipFill>
          <a:blip r:embed="rId1"/>
          <a:stretch/>
        </p:blipFill>
        <p:spPr>
          <a:xfrm>
            <a:off x="380880" y="1671480"/>
            <a:ext cx="8382240" cy="351504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" descr=""/>
          <p:cNvPicPr/>
          <p:nvPr/>
        </p:nvPicPr>
        <p:blipFill>
          <a:blip r:embed="rId2"/>
          <a:stretch/>
        </p:blipFill>
        <p:spPr>
          <a:xfrm>
            <a:off x="1547640" y="4653000"/>
            <a:ext cx="505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8" name="图片 11265" descr=""/>
          <p:cNvPicPr/>
          <p:nvPr/>
        </p:nvPicPr>
        <p:blipFill>
          <a:blip r:embed="rId1"/>
          <a:stretch/>
        </p:blipFill>
        <p:spPr>
          <a:xfrm>
            <a:off x="1324080" y="1347840"/>
            <a:ext cx="649584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35:55Z</dcterms:modified>
  <cp:revision>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